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3D0-26F0-475A-B7A7-3E2B596C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FAF-144D-4078-8635-5870EBFC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AEA-6664-40F0-954F-3923EBBC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B4C-E1C6-4E71-A51D-AB416E4E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C42-2103-411E-A61C-2C33B4DC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209-AEE6-4CD8-BD37-8CC2559C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643-04FB-46BE-AEA3-7BCBC426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CA4-01FC-4F46-BFF7-0E4CFA5F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880-1570-4B49-9BE0-0737208E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BEB-F2C2-446E-84F4-7A5FC6C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BDC-2FDD-4A18-8388-150E78CF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E7B-5337-4ED2-98DE-E361B7A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796C-7642-4C1A-AF24-29A26C99B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O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Case-Contro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10640" cy="298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010640" cy="198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2743200"/>
            <a:ext cx="70106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467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9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3396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685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10280" y="594360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46784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7696080" cy="23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96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57600" cy="213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381024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381024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8080" y="3352680"/>
            <a:ext cx="3657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943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594360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828800"/>
            <a:ext cx="1143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934320" cy="198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93432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6934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2:14:17Z</dcterms:modified>
  <cp:revision>41</cp:revision>
  <dc:subject/>
  <dc:title>PowerPoint Presentation</dc:title>
</cp:coreProperties>
</file>